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D2B1-3576-4DB6-88A0-28E6CCDAE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5AAB-0687-4927-9CE1-06EC89EF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5663-601E-4BBC-B9C9-2F840D81F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7357-92CF-4A35-BD2F-8F8AA6D47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88CC-5F97-490C-B674-0D2EF12A9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056E-EF2D-42D8-8473-4A52171E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2DDE-08F2-4DEE-97FD-57C9CD80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3CF0-D21D-4FCD-95F6-36FA01B9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DB9F-6EF0-47D1-9D81-F6AB7E08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BC869-6231-4441-AD09-C94C6A19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A7D1-0758-4DA9-A982-78D5A03D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D94E-9FE8-4A0A-9ABB-8FEBEAE9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F24F-BF09-4B53-8E09-14AAB84E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74CC-36EE-49EF-A3F6-EB38CFB8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6F9D-5CB0-405C-B569-E54ACE2C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05022-0297-4B08-9765-5C76EE0FB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040DB-78C9-4B64-AD9C-6F354BB33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3160-3C44-42C9-932D-417C6733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DE5C-05A6-47C4-8750-B7A3A74C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7F5B-0704-4259-8077-F0B438D2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B8CB-D2FD-4738-8778-34EACDF2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C14C-CF70-46E9-AA7A-AD5C1A3D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B475-2A50-4718-8B28-1AEB7B5B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D47B-A623-4BA5-B32B-8D4E61A0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191D-B987-4376-BC0F-1AF2438AC5D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7DFF-49EC-4498-9B3F-4FA07E997F0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Proyecto TIC en un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Centro Educativo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50800" y="2841480"/>
            <a:ext cx="3540240" cy="311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FF81-88A4-4CCE-8F4C-8C4D2C06E50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ocument"/>
          <p:cNvSpPr/>
          <p:nvPr/>
        </p:nvSpPr>
        <p:spPr>
          <a:xfrm>
            <a:off x="1190520" y="1666800"/>
            <a:ext cx="4057920" cy="5038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tivos del alumnado 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36600" y="1731600"/>
            <a:ext cx="401184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Aumentar el interés por aprender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Favorecer el aprendizaje cooperativo y socia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Estimular creatividad e imaginación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664240" y="3857760"/>
            <a:ext cx="28764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09B3-A93B-4283-8586-EE1FC44798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ocument"/>
          <p:cNvSpPr/>
          <p:nvPr/>
        </p:nvSpPr>
        <p:spPr>
          <a:xfrm>
            <a:off x="1190520" y="1666800"/>
            <a:ext cx="4057920" cy="50198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tivos del alumnado I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36600" y="1731960"/>
            <a:ext cx="4011840" cy="40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Enfatizar la vertiente comunicativa de los medios tecnológico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Potenciar la integración de alumnado con necesidades educativas especiale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Familiarizarse y concienciarse del nuevo modelo de formación: autónomo y a distancia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664240" y="3857760"/>
            <a:ext cx="28764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1E41-2160-4085-8E1E-264839D7D4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tivos del profesorado 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95480" y="1827360"/>
            <a:ext cx="668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iseñar Unidades Didácticas que incorporen el uso de nuevas tecnología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Adaptar o diseñar multimedias que favorezcan el aprendizaje constructiv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Experimentar modelos de enseñanza alternativos a la instrucción direct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iseñar programas de apoyo al alumnado con necesidades educativ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16080" y="4189320"/>
            <a:ext cx="142380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94C7-3F32-491D-B4F4-2FEE2BE8C5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tivos del profesorado 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95480" y="1827360"/>
            <a:ext cx="668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spcAft>
                <a:spcPts val="1562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Desarrollar modelos de evaluación sobre la utilización de los medios tecnológico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spcAft>
                <a:spcPts val="1562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Participar en iniciativas de formación presencial y a distancia sobre el uso de las NNTT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spcAft>
                <a:spcPts val="1562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Reconocer el nuevo rol del profesor: diseñador y facilitador de entorno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spcAft>
                <a:spcPts val="156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16080" y="4189320"/>
            <a:ext cx="142380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2118-7843-43DB-9686-36E99CFE36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Líneas de Actu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006560" y="2200320"/>
            <a:ext cx="1674720" cy="1496880"/>
            <a:chOff x="1006560" y="2200320"/>
            <a:chExt cx="1674720" cy="149688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1015920" y="220032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404720" y="2486160"/>
              <a:ext cx="69876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U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06560" y="324648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Uso de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Materia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454560" y="3246480"/>
            <a:ext cx="2266920" cy="1695240"/>
            <a:chOff x="3454560" y="3246480"/>
            <a:chExt cx="2266920" cy="1695240"/>
          </a:xfrm>
        </p:grpSpPr>
        <p:sp>
          <p:nvSpPr>
            <p:cNvPr id="136" name="computr3"/>
            <p:cNvSpPr/>
            <p:nvPr/>
          </p:nvSpPr>
          <p:spPr>
            <a:xfrm>
              <a:off x="3454560" y="3246480"/>
              <a:ext cx="2266920" cy="169524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93640" y="3362400"/>
              <a:ext cx="101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00"/>
                  </a:solidFill>
                  <a:latin typeface="Verdana"/>
                </a:rPr>
                <a:t>Proyec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69680" y="3673440"/>
              <a:ext cx="66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TI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747880" y="1600200"/>
            <a:ext cx="1674720" cy="1496880"/>
            <a:chOff x="2747880" y="1600200"/>
            <a:chExt cx="1674720" cy="1496880"/>
          </a:xfrm>
        </p:grpSpPr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2757240" y="160020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3162960" y="1886040"/>
              <a:ext cx="66672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V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47880" y="264636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Valoración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Materia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184720" y="1619280"/>
            <a:ext cx="1674720" cy="1496880"/>
            <a:chOff x="5184720" y="1619280"/>
            <a:chExt cx="1674720" cy="1496880"/>
          </a:xfrm>
        </p:grpSpPr>
        <p:pic>
          <p:nvPicPr>
            <p:cNvPr id="144" name="" descr=""/>
            <p:cNvPicPr/>
            <p:nvPr/>
          </p:nvPicPr>
          <p:blipFill>
            <a:blip r:embed="rId3"/>
            <a:stretch/>
          </p:blipFill>
          <p:spPr>
            <a:xfrm>
              <a:off x="5194080" y="161928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5625360" y="1905120"/>
              <a:ext cx="6166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A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84720" y="266544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333300"/>
                  </a:solidFill>
                  <a:latin typeface="Trebuchet MS"/>
                </a:rPr>
                <a:t>Alfabetiz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333300"/>
                  </a:solidFill>
                  <a:latin typeface="Trebuchet MS"/>
                </a:rPr>
                <a:t>Digit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6840360" y="2496960"/>
            <a:ext cx="1674720" cy="1496880"/>
            <a:chOff x="6840360" y="2496960"/>
            <a:chExt cx="1674720" cy="1496880"/>
          </a:xfrm>
        </p:grpSpPr>
        <p:pic>
          <p:nvPicPr>
            <p:cNvPr id="148" name="" descr=""/>
            <p:cNvPicPr/>
            <p:nvPr/>
          </p:nvPicPr>
          <p:blipFill>
            <a:blip r:embed="rId4"/>
            <a:stretch/>
          </p:blipFill>
          <p:spPr>
            <a:xfrm>
              <a:off x="6849720" y="249696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7287480" y="2782800"/>
              <a:ext cx="60444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D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40360" y="354312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Aten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Diversida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840360" y="4370400"/>
            <a:ext cx="1674720" cy="1496880"/>
            <a:chOff x="6840360" y="4370400"/>
            <a:chExt cx="1674720" cy="1496880"/>
          </a:xfrm>
        </p:grpSpPr>
        <p:pic>
          <p:nvPicPr>
            <p:cNvPr id="152" name="" descr=""/>
            <p:cNvPicPr/>
            <p:nvPr/>
          </p:nvPicPr>
          <p:blipFill>
            <a:blip r:embed="rId5"/>
            <a:stretch/>
          </p:blipFill>
          <p:spPr>
            <a:xfrm>
              <a:off x="6849720" y="437040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7312680" y="4656240"/>
              <a:ext cx="5554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B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40360" y="541656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Bibliotec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Escola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970520" y="5119560"/>
            <a:ext cx="1674720" cy="1496880"/>
            <a:chOff x="4970520" y="5119560"/>
            <a:chExt cx="1674720" cy="1496880"/>
          </a:xfrm>
        </p:grpSpPr>
        <p:pic>
          <p:nvPicPr>
            <p:cNvPr id="156" name="" descr=""/>
            <p:cNvPicPr/>
            <p:nvPr/>
          </p:nvPicPr>
          <p:blipFill>
            <a:blip r:embed="rId6"/>
            <a:stretch/>
          </p:blipFill>
          <p:spPr>
            <a:xfrm>
              <a:off x="4979880" y="511956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5414400" y="5405400"/>
              <a:ext cx="6120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G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970520" y="616572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Gest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Admin. y Tuto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2589120" y="5281560"/>
            <a:ext cx="1674720" cy="1496880"/>
            <a:chOff x="2589120" y="5281560"/>
            <a:chExt cx="1674720" cy="1496880"/>
          </a:xfrm>
        </p:grpSpPr>
        <p:pic>
          <p:nvPicPr>
            <p:cNvPr id="160" name="" descr=""/>
            <p:cNvPicPr/>
            <p:nvPr/>
          </p:nvPicPr>
          <p:blipFill>
            <a:blip r:embed="rId7"/>
            <a:stretch/>
          </p:blipFill>
          <p:spPr>
            <a:xfrm>
              <a:off x="2598480" y="528156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3069720" y="5567400"/>
              <a:ext cx="54036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F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89120" y="632772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Forma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Profesorad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838080" y="4071960"/>
            <a:ext cx="1674720" cy="1496880"/>
            <a:chOff x="838080" y="4071960"/>
            <a:chExt cx="1674720" cy="1496880"/>
          </a:xfrm>
        </p:grpSpPr>
        <p:pic>
          <p:nvPicPr>
            <p:cNvPr id="164" name="" descr=""/>
            <p:cNvPicPr/>
            <p:nvPr/>
          </p:nvPicPr>
          <p:blipFill>
            <a:blip r:embed="rId8"/>
            <a:stretch/>
          </p:blipFill>
          <p:spPr>
            <a:xfrm>
              <a:off x="847440" y="407196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1240920" y="4357800"/>
              <a:ext cx="69444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D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38080" y="511812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Diseñ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Materia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ABA1-0DD1-408E-990E-A95968F316D3}" type="slidenum">
              <a:t>14</a:t>
            </a:fld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lfabetización Digital: 1º Cicl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Teclad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Entorno Windows: Programas y Ventana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Word: edición básica de un documento: título, imagen y text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Navegación por Internet: websites conocida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Navegación por Mi Primera Encarta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Dibujar con el Paint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La cámara digital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La grabadora de sonido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Envío y Recepción de Email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058160" y="0"/>
            <a:ext cx="1825560" cy="1905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BFA4-A0B3-490F-A6F0-3E28C92357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lfabetización Digital: 2º Cicl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Teclado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Entorno Windows: Archivos y Disco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Word: edición de un documento: formato de imagen y texto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Navegación por Internet:herramientas escolares y buscador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Herramientas escolares de Encarta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Dibujar con el Paint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La cámara digital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La grabadora de sonido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Emails con adjunto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Escaneado de imágenes propia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058160" y="0"/>
            <a:ext cx="1825560" cy="1905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4B70-3653-44F3-B197-BE7BB28FC1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Otras Líneas de Actu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Biblioteca Escolar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Gestión Administrativa y Tutoria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Valoración de Material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Diseño de Material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A8DE-91BB-49F8-AC2B-F278F52676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iblioteca Escola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Biblioteca -&gt; Mediateca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Gestión catálogo: Abies 2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Consulta web del catálogo: Bonsai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Formación de usuario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Proyecto interdisciplinar por hito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7f7f7f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8440" y="5210280"/>
            <a:ext cx="2033640" cy="16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8DCF-A426-4450-A061-1E3C096A6D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Gestión Administrativa y Tutori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Plantillas documentación oficial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Gestión escolar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Gestión económica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Noticias web para familia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Gestión tutorial: listas y evaluacione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B85B-C7A6-4CE4-81E8-9C968733521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Índi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ontext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Objetivo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Líneas de Actuació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Organizació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La Web del Centr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rmación del Profesorad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valuación del Proyect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Perspectivas del futur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1CBA-6191-47F5-9F2F-CA1C701DD9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aloración de Material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Equipo de profesor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Criterios de valoración </a:t>
            </a: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1) Profesor Marc Peré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Aspectos técnicos: interacción, fiabilidad, navegación, etc.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Aspectos estéticos: entorno, calidad …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Aspectos de utilidad didáctica: estrategias, evaluación, continuidad …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Aspectos pedagógicos: refuerzos, motivación, buscadores, etc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Elaboración de una guía de explotación didáctica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Presentación del material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Revisión del Plan Anual de Uso de Material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00F7-4045-41CA-A31C-0A215235586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Diseño de Materiale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69800" y="2548080"/>
            <a:ext cx="73134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Necesidad del diseño: escasez de iniciativas editoriale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Entornos de publicación: Aula - Red local – Web del centro – Aula virtual - Otro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Herramientas: Word – FrontPage - PowerPoint – Autor NEA - Hot Potatoes – JClic – Flash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43800" y="530280"/>
            <a:ext cx="2039760" cy="201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2C30-F409-4605-A825-5A921A5DEA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Organiz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Horarios y espacio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Organigram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l Coordinador TIC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1D91-DB98-4799-9C83-3FFD5611C82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Organización: Horarios y espacio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90840" y="1827360"/>
            <a:ext cx="709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UM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Uso de Materiales I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: 1 sesión semanal. Cada grupo asiste con su tutor. (12 horas)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UM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Uso de Materiales II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: 1 sesión quincenal. Cada grupo asiste con profesor especialista (Inglés-Música-Llíngua-Plástica) (20 horas)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AD Alfabetización Digital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: 1 sesión semanal. Cada grupo asiste con un profesor responsable de Ciclo (12 horas)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BE Biblioteca Escolar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: 1 sesión semanal. Cada grupo asiste con su tutor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AD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Atención a la Diversidad 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(apoyos): resto horario lectivo disponible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FP Formación profesorado. 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Horario de dedicación exclusiva (2 horas semanales: individual y grupo)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36440" y="4495680"/>
            <a:ext cx="1594080" cy="216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CA7F-F912-40B1-A7F4-3B4FDF6C461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Organización: Organigram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410080" y="2540160"/>
            <a:ext cx="3601440" cy="1402560"/>
            <a:chOff x="5410080" y="2540160"/>
            <a:chExt cx="3601440" cy="1402560"/>
          </a:xfrm>
        </p:grpSpPr>
        <p:sp>
          <p:nvSpPr>
            <p:cNvPr id="194" name=""/>
            <p:cNvSpPr/>
            <p:nvPr/>
          </p:nvSpPr>
          <p:spPr>
            <a:xfrm>
              <a:off x="5410080" y="2540160"/>
              <a:ext cx="1308240" cy="1226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752160" y="3422520"/>
              <a:ext cx="225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DV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Profesores de Apoy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, Logopedia y P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6010200" y="1724040"/>
            <a:ext cx="2193840" cy="1225440"/>
            <a:chOff x="6010200" y="1724040"/>
            <a:chExt cx="2193840" cy="1225440"/>
          </a:xfrm>
        </p:grpSpPr>
        <p:sp>
          <p:nvSpPr>
            <p:cNvPr id="197" name=""/>
            <p:cNvSpPr/>
            <p:nvPr/>
          </p:nvSpPr>
          <p:spPr>
            <a:xfrm>
              <a:off x="6461280" y="2016000"/>
              <a:ext cx="1168200" cy="9334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10200" y="1724040"/>
              <a:ext cx="219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GA: 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utores y Secretarí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016640" y="2062080"/>
            <a:ext cx="1717200" cy="1704960"/>
            <a:chOff x="1016640" y="2062080"/>
            <a:chExt cx="1717200" cy="1704960"/>
          </a:xfrm>
        </p:grpSpPr>
        <p:sp>
          <p:nvSpPr>
            <p:cNvPr id="200" name=""/>
            <p:cNvSpPr/>
            <p:nvPr/>
          </p:nvSpPr>
          <p:spPr>
            <a:xfrm>
              <a:off x="1380960" y="2579760"/>
              <a:ext cx="1352880" cy="11872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16640" y="20620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BE: 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Responsab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de la Bibliotec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783000" y="3173400"/>
            <a:ext cx="2939760" cy="1347840"/>
            <a:chOff x="783000" y="3173400"/>
            <a:chExt cx="2939760" cy="1347840"/>
          </a:xfrm>
        </p:grpSpPr>
        <p:sp>
          <p:nvSpPr>
            <p:cNvPr id="203" name=""/>
            <p:cNvSpPr/>
            <p:nvPr/>
          </p:nvSpPr>
          <p:spPr>
            <a:xfrm>
              <a:off x="2185920" y="3173400"/>
              <a:ext cx="1536840" cy="1347840"/>
            </a:xfrm>
            <a:prstGeom prst="pie">
              <a:avLst/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83000" y="3848040"/>
              <a:ext cx="149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DM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Grupos de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profesor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157040" y="4297320"/>
            <a:ext cx="2229120" cy="2050200"/>
            <a:chOff x="1157040" y="4297320"/>
            <a:chExt cx="2229120" cy="2050200"/>
          </a:xfrm>
        </p:grpSpPr>
        <p:sp>
          <p:nvSpPr>
            <p:cNvPr id="206" name=""/>
            <p:cNvSpPr/>
            <p:nvPr/>
          </p:nvSpPr>
          <p:spPr>
            <a:xfrm>
              <a:off x="1228680" y="4297320"/>
              <a:ext cx="1893960" cy="1692360"/>
            </a:xfrm>
            <a:prstGeom prst="pi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57040" y="6040440"/>
              <a:ext cx="22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FP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Todos los profesor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012480" y="2070000"/>
            <a:ext cx="2462040" cy="1758960"/>
            <a:chOff x="3012480" y="2070000"/>
            <a:chExt cx="2462040" cy="1758960"/>
          </a:xfrm>
        </p:grpSpPr>
        <p:sp>
          <p:nvSpPr>
            <p:cNvPr id="209" name=""/>
            <p:cNvSpPr/>
            <p:nvPr/>
          </p:nvSpPr>
          <p:spPr>
            <a:xfrm>
              <a:off x="3436920" y="2481120"/>
              <a:ext cx="1373040" cy="1347840"/>
            </a:xfrm>
            <a:prstGeom prst="pie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12480" y="2070000"/>
              <a:ext cx="2462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VM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Coordinador Ciclo y u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profesor por especialida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4191120" y="3259080"/>
            <a:ext cx="4073760" cy="1347840"/>
            <a:chOff x="4191120" y="3259080"/>
            <a:chExt cx="4073760" cy="1347840"/>
          </a:xfrm>
        </p:grpSpPr>
        <p:sp>
          <p:nvSpPr>
            <p:cNvPr id="212" name=""/>
            <p:cNvSpPr/>
            <p:nvPr/>
          </p:nvSpPr>
          <p:spPr>
            <a:xfrm>
              <a:off x="4191120" y="3259080"/>
              <a:ext cx="1536480" cy="1347840"/>
            </a:xfrm>
            <a:prstGeom prst="pi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857560" y="3968640"/>
              <a:ext cx="2407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UM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Tutores, Especialista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y Apoyos a Grup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4505400" y="4297320"/>
            <a:ext cx="2553120" cy="1999440"/>
            <a:chOff x="4505400" y="4297320"/>
            <a:chExt cx="2553120" cy="1999440"/>
          </a:xfrm>
        </p:grpSpPr>
        <p:sp>
          <p:nvSpPr>
            <p:cNvPr id="215" name=""/>
            <p:cNvSpPr/>
            <p:nvPr/>
          </p:nvSpPr>
          <p:spPr>
            <a:xfrm>
              <a:off x="4505400" y="4297320"/>
              <a:ext cx="1666800" cy="1584360"/>
            </a:xfrm>
            <a:prstGeom prst="pi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2640" y="5989680"/>
              <a:ext cx="231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AD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Un profesor por Cicl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A042-9C7B-4561-B007-49B063FE7A8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El Coordinador TIC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Sus funciones más destacadas: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Apoyar al profesorado en la integración de las TICs en la docencia diaria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Organizar y gestionar los recursos asegurando su correcto funcionamiento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Colaborar en la implantación de los servicios de la Intranet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Dinamizar los proyectos del centro relacionados con NNTT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Gestionar el presupuesto específico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Coordinar la comunicación del centro con las instituciones en temas TIC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018040" y="2141640"/>
            <a:ext cx="3665520" cy="28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63FB-1FA3-49B7-8E78-320A8C2668A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La Web del Centr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tu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Principio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0214-2731-4FCB-B6DD-04524914A08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 web del centro I: Situacion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Recurso importante en el proyecto TIC del centr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Pretende los mismos objetivos que el plan TIC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Debe superar el enfoque inicial de “escaparate”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Portal de recursos de continua referencia del alumnado: de lo conocido a lo desconocid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640640" y="38160"/>
            <a:ext cx="1455840" cy="144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F034-EA79-42E5-A8A2-80A38630FB1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La web del centro II: Principio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Usabilidad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entorno intuitivo, amigable y adaptado al alumnado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Actividad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participación del alumnado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Enfoque educativo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fomentar un uso más racional de los medios tecnológico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Información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comunicar los detalles del proyecto educativo al resto de la comunidad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Portal de recursos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integrar múltiples recursos para convertirlo en sitio de referencia permanente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Animación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facilitador de experiencias didácticas de innovación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640640" y="38160"/>
            <a:ext cx="1455840" cy="144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E504-084F-4543-99FB-9C137FFFA66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rmación del profesorado: Modalidad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400120" y="1827360"/>
            <a:ext cx="628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actor clave de la integración TIC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minario de formación en centr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Bajo la dirección del coordinador y con el apoyo del Centro de Profesor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Sesión quincenal de 2 hora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Alterna formación impartida por el coordinador con trabajo individual, de pequeño y de gran grupo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ormación presencial: cursos del Centro de Profesore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ormación a distancia: Consejería y CNICE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85680" y="3591000"/>
            <a:ext cx="2209680" cy="308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1936-683A-41C8-A6B4-DBBA171E880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tuación actual de las TIC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Principios de actuació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Contexto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72F8-6DA9-4075-9D6A-D3E00E8E87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Evaluación del proyect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valuación del alumno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valuación del profesor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valuación del proceso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097E-8047-46FB-B822-57DF0760140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valuación del alumno 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se facilita la creatividad y la imaginació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se favorece la comunicación del alumnado con su entorn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se posibilita la integración social de alumnos con nee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se potencia el uso de nuevos entornos de aprendizaje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7209000" y="5419800"/>
            <a:ext cx="1352520" cy="131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D777-EC76-4BA9-AE84-07F6A734A35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Evaluación del alumno II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36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la integración TIC supone construcción del conocimient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mejoran las habilidades de pensamiento crític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adquieren valores relacionados con el uso de las TIC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estimula el interés por aprender en alumnos con nee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fomenta el trabajo cooperativ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7209000" y="5419800"/>
            <a:ext cx="1352520" cy="131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4FA6-A403-4F90-B779-31E44A06B11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valuación del profesor 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739880" y="1827000"/>
            <a:ext cx="6943680" cy="36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han incorporado TICs como instrumentos cognitivos en el desarrollo de Unidades Didáctica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el aprovechamiento de las TICs es el más adecuad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ha participado activamente en la valoración, adaptación y diseño de recurso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han experimentado modelos de enseñanza alternativos a la inst.directa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6080" y="4189320"/>
            <a:ext cx="142380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05CE-20F6-47E6-9165-54EAB5A787B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valuación del profesor 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39880" y="1827360"/>
            <a:ext cx="69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se ha puesto en práctica algún modelo de evaluació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la formación recibida es de utilidad en la docencia diaria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existe sensibilidad hacia el cambio de rol del profesor que supone la integración de las TIC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16080" y="4189320"/>
            <a:ext cx="142380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619A-83FC-44F1-84D9-010A686A853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valuación del proces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819080" y="1827360"/>
            <a:ext cx="686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los recursos son adecuados y se utilizan de forma eficaz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la organización de recursos es idónea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existe compromiso de todos los participantes: alumnado, profesorado, familias, etc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observa especial incidencia en la práctica docente y familiar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el trabajo del coordinador de TICs es adecuad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200160" y="5181480"/>
            <a:ext cx="1307880" cy="1227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289160" y="5573880"/>
            <a:ext cx="1054080" cy="988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302C-3F00-4A52-B0A7-4B871729654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Situación Actual de las TICs I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14280" y="2189160"/>
            <a:ext cx="45594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Aprendizaje sobre/con la tecnología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Programas basados en la filosofía del refuerzo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El éxito de una aplicación también depende del contexto de uso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1720" y="3922560"/>
            <a:ext cx="2818080" cy="2722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156120" y="1482840"/>
            <a:ext cx="5778360" cy="3375000"/>
          </a:xfrm>
          <a:prstGeom prst="cloudCallout">
            <a:avLst>
              <a:gd name="adj1" fmla="val -40740"/>
              <a:gd name="adj2" fmla="val 69990"/>
            </a:avLst>
          </a:prstGeom>
          <a:noFill/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D5A1-0506-4B50-A968-6A38FCEC21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Situación Actual de las TICs II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0000" y="2027160"/>
            <a:ext cx="4888080" cy="33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a tecnología no garantiza motivació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o del ordenador como un libr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gramas para reforzar conocimientos o bien para mejorar la productividad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flicto de competencias entre el ser humano y la máquin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 rot="20217600">
            <a:off x="6362640" y="4673160"/>
            <a:ext cx="3149640" cy="3043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99960" y="1444680"/>
            <a:ext cx="6458040" cy="4079880"/>
          </a:xfrm>
          <a:prstGeom prst="cloudCallout">
            <a:avLst>
              <a:gd name="adj1" fmla="val 45106"/>
              <a:gd name="adj2" fmla="val 39532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9279-1C13-405C-82BF-F94FBA39BE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Principios I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0080" y="1884240"/>
            <a:ext cx="645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mentar creación frente a reproducció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avorecer el aprendizaje interactivo, constructivo, autorregulado y tecnológic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alorar el medio tecnológico por su valor como instrumento cognitiv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nfatizar la construcción del conocimient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timular el desarrollo de habilidades del pensamient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945480" y="1590840"/>
            <a:ext cx="2014200" cy="285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3E6B-ADF6-4178-AFC5-DEBA1AC4A4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Principios II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171960" y="1827360"/>
            <a:ext cx="551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112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Sensibilizarse con la educación en valores relacionada con el uso de las tecnología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spcAft>
                <a:spcPts val="118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Enfatizar la vertiente cooperativa del aprendizaje: alumnos, profes, padres, etc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spcAft>
                <a:spcPts val="118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Desarrollar habilidades instrumentales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spcAft>
                <a:spcPts val="118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Alternar modelos de enseñanza y aprendizaje variados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spcAft>
                <a:spcPts val="118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Utilizar un recurso tecnológico sólo si merece la pena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92200" y="3514680"/>
            <a:ext cx="201456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966B-470E-449E-BF89-B62BFFD0F5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Objetivos del Alumnado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Objetivos del Profesorado 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Objetivo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E365-616B-46AA-978C-9BE60A994A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ocument"/>
          <p:cNvSpPr/>
          <p:nvPr/>
        </p:nvSpPr>
        <p:spPr>
          <a:xfrm>
            <a:off x="1190520" y="1666800"/>
            <a:ext cx="4057920" cy="5038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tivos del alumnado 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36600" y="1703160"/>
            <a:ext cx="401184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Construir aprendizaje del currículo usando los medios tecnológico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Mejorar habilidades del pensamiento adquiriendo estrategias inteligente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Desarrollar el sentido crítico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Adquirir una adecuada formación en valore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664240" y="3857760"/>
            <a:ext cx="28764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98FB-9EE6-409B-A908-FBAA67B62C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0:41:53Z</dcterms:created>
  <dc:creator> fpp</dc:creator>
  <dc:description/>
  <dc:language>en-US</dc:language>
  <cp:lastModifiedBy>fpp</cp:lastModifiedBy>
  <dcterms:modified xsi:type="dcterms:W3CDTF">2007-05-05T22:15:31Z</dcterms:modified>
  <cp:revision>95</cp:revision>
  <dc:subject/>
  <dc:title>Proyecto de TICs en un  Centro de Educación Primar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Path">
    <vt:lpwstr>Proyecto de TICs en un</vt:lpwstr>
  </property>
  <property fmtid="{D5CDD505-2E9C-101B-9397-08002B2CF9AE}" pid="3" name="LastUsedName">
    <vt:lpwstr>Proyecto de TICs en un</vt:lpwstr>
  </property>
</Properties>
</file>